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64A9-F44C-4A89-9CCD-A3A4C36AF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C224-D188-4AEF-AD9C-EC26BFF7E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F60-A755-4D42-9E02-62BA7E9B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496-68B9-474F-A56E-F19269CD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8D9-69FB-47F9-B430-63AED0E8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D2A-6492-4EE8-A65C-FEF2FAF1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E173-AE25-4249-BFFB-2C9A4164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4BD-5F7C-4CC4-AAAF-4F36DCC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A16E-AE67-4F8C-91D1-EAFCD7A2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11EC-59EE-4290-A7FE-C8815598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2BEA-6D21-4DC0-9517-BA48E97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25ED-79F2-4792-9498-1A5B073F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19C5-B505-42A8-B9F2-383BF5A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983-13CE-48A6-97AB-F6DE6E43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AAE2-341F-4E73-88CF-E541D649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B23F-5AE0-4FAB-832A-9943C9D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5089-9DD2-4D09-820F-54B721C6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84BC-9252-44B3-9D52-BFBC7563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13C8-650B-4CC7-A2FA-282A4F2E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121B-1228-44F2-A251-D7895D92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02AF-66C1-4B87-A0FD-5BCFC31B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AE79-D8D0-41A7-92A8-37398DD4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2977-0048-4E15-AB56-27E7B549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9A83-B50D-49B7-A8E5-3C9D34CA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906-B5CB-4016-8CF9-153FC8D8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40B2-D7EF-4565-982C-C66032E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31F6-AE9A-4018-9E54-C17B120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CD68-F42D-4DED-88B1-A230E5C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C202-051E-4383-9607-C049B3A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0B06-D0EC-4939-B21D-0B55EBF5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14B6-7178-4B6F-9EC2-6F4B15AA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2742-0405-42D5-B1B3-1093FA63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BD61-43C5-4F55-AC47-EA59A546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94464-D66D-43D0-8F50-4C7C644B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425F-F8ED-442E-8E27-A2BBB68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482-9FEA-470A-BEE2-6D61518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F46C-8969-49A7-AC67-4ED0ABAF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C532-D96F-4899-A63B-5386348C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21D8-5BCC-4CA5-A468-129327A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B81A-4550-4630-8B98-A2D0122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D4F8B-1470-47AD-A66F-6D872561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667A-40E5-46DC-A9F1-3A39C53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AB9C-94D1-4B37-BD72-E08D3BDE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F5D0-EC88-4142-8325-EC17C817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BB8D2-8767-457F-8F39-56AD021C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1706-29BF-45BC-B804-DFD8630A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202-DF20-4DC8-9142-0618DDC0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E82D4-629F-4E8F-98BB-31B4027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010A-FA18-451A-90BD-CD160B5A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E1B0-AEDA-4C44-8229-6EE9C198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7A8C1-0CF7-42D4-83B1-AF74574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23086-C9E8-4721-9414-C218BBA3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32384-B45A-4847-9FE3-6ADF209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C578-806D-4A4A-8752-A4AA7C2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F3AB-9E08-41C1-8728-97473FA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6D4B7-460E-48F1-A00A-0A2B3AA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40DA-BAEE-4539-AB4D-AC7C3F83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419-B25B-465E-88A1-91AB8D3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EF56-630C-4E23-92AB-2AAE78DD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167-C26C-4FB2-A134-70F7C50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4E8-62F3-4A4A-B509-EB7AE01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D50-2E4B-4BFB-967F-3E6832A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64E1-AC46-4515-90E7-3C6AEDD756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94F-3594-44EC-BE0B-15E9EB609B7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0C0C-C02F-45E5-B226-FDEE96A189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1B5F-ACFA-4B90-8B53-A6E16DABE7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A7E9-0522-4CB4-8A16-646B282D7E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37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conclusions should we draw from van Helmont’s experi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re would you expect a deficiency of a relative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mmob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lement to be seen first in a plant? (pg. 756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are the possible consequences of selling off water rights to cities and developmen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le of soil bacteria in the nitrogen nutrition of pla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95" name="Picture 22" descr="37_10aBacterialNitrogen_2-L.jpg"/>
          <p:cNvPicPr/>
          <p:nvPr/>
        </p:nvPicPr>
        <p:blipFill>
          <a:blip r:embed="rId1"/>
          <a:stretch/>
        </p:blipFill>
        <p:spPr>
          <a:xfrm>
            <a:off x="304920" y="1981080"/>
            <a:ext cx="8547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97" name="Content Placeholder 3" descr="37_13_Mycorrhizae-L.jpg"/>
          <p:cNvPicPr/>
          <p:nvPr/>
        </p:nvPicPr>
        <p:blipFill>
          <a:blip r:embed="rId1"/>
          <a:stretch/>
        </p:blipFill>
        <p:spPr>
          <a:xfrm>
            <a:off x="1295280" y="88920"/>
            <a:ext cx="674712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1720" y="22860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72314"/>
                </a:solidFill>
                <a:uFillTx/>
                <a:latin typeface="Arial"/>
              </a:rPr>
              <a:t>Unusual nutritional adaptations</a:t>
            </a:r>
            <a:r>
              <a:rPr b="0" lang="en-US" sz="3200" spc="-1" strike="noStrike">
                <a:solidFill>
                  <a:srgbClr val="572314"/>
                </a:solidFill>
                <a:latin typeface="Arial"/>
              </a:rPr>
              <a:t>: epiphytes, parasitic plants, canivorous pla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1219320" y="5410080"/>
            <a:ext cx="7619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piphy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w on another plant, absorb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rom rain through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37_15aEpiphytes-L.jpg"/>
          <p:cNvPicPr/>
          <p:nvPr/>
        </p:nvPicPr>
        <p:blipFill>
          <a:blip r:embed="rId1"/>
          <a:stretch/>
        </p:blipFill>
        <p:spPr>
          <a:xfrm>
            <a:off x="2971800" y="1523880"/>
            <a:ext cx="54133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6"/>
          <p:cNvSpPr/>
          <p:nvPr/>
        </p:nvSpPr>
        <p:spPr>
          <a:xfrm>
            <a:off x="1219320" y="52578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rasitic 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t photosynthetic; absorb sugar and minerals from living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37_15b_ParasiticPlants-L.jpg"/>
          <p:cNvPicPr/>
          <p:nvPr/>
        </p:nvPicPr>
        <p:blipFill>
          <a:blip r:embed="rId1"/>
          <a:stretch/>
        </p:blipFill>
        <p:spPr>
          <a:xfrm>
            <a:off x="304920" y="596880"/>
            <a:ext cx="8547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7"/>
          <p:cNvSpPr/>
          <p:nvPr/>
        </p:nvSpPr>
        <p:spPr>
          <a:xfrm>
            <a:off x="1143000" y="54100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rnivorous 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hotosynthetic, but obtain some nitrogen and minerals by digesting small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37_15c_CarnivorousPlants-L.jpg"/>
          <p:cNvPicPr/>
          <p:nvPr/>
        </p:nvPicPr>
        <p:blipFill>
          <a:blip r:embed="rId1"/>
          <a:stretch/>
        </p:blipFill>
        <p:spPr>
          <a:xfrm>
            <a:off x="1447920" y="0"/>
            <a:ext cx="675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pter 37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Plant Nutri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8" name="Picture 5" descr="37_01PitcherPlants-L.jpg"/>
          <p:cNvPicPr/>
          <p:nvPr/>
        </p:nvPicPr>
        <p:blipFill>
          <a:blip r:embed="rId1"/>
          <a:stretch/>
        </p:blipFill>
        <p:spPr>
          <a:xfrm>
            <a:off x="1981080" y="2590920"/>
            <a:ext cx="5380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you need to know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tualistic relationships between plant roots and the bacteria and fungi that grow in the rhizosphere help plants acquire important nutri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nmutualistic nutritional adaptations enable plant survival in adverse habita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198800" y="55440"/>
            <a:ext cx="73879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Nutritional Require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18960" y="1294920"/>
            <a:ext cx="7715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ssential el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required for plant to complete life cycle and produce another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Macronutrien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large amounts): CHNOPS + K, Ca, M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Nitrogen = most importan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Micronutrien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small amounts): Fe, Mn, Zn, Cu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37_T01EssentialElements-L.jpg"/>
          <p:cNvPicPr/>
          <p:nvPr/>
        </p:nvPicPr>
        <p:blipFill>
          <a:blip r:embed="rId1"/>
          <a:stretch/>
        </p:blipFill>
        <p:spPr>
          <a:xfrm>
            <a:off x="298440" y="277920"/>
            <a:ext cx="85471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37_08MineralDeficiencies-L.jpg"/>
          <p:cNvPicPr/>
          <p:nvPr/>
        </p:nvPicPr>
        <p:blipFill>
          <a:blip r:embed="rId1"/>
          <a:stretch/>
        </p:blipFill>
        <p:spPr>
          <a:xfrm>
            <a:off x="838080" y="457200"/>
            <a:ext cx="755028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oil Qual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extu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– topsoil w/ humus (decayed organic material) prevents packing of cl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orous (reta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) yet aeration of roo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hemical compos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ation exchan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oots ad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soil to replace cations (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absorbed by pl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0" descr="_x0019_37_06SoilToRootHair_U.jpg                                      0002A27D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1873080"/>
            <a:ext cx="8535960" cy="41468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2836800" y="1905120"/>
            <a:ext cx="2033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particle surroun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m of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589200" y="2514600"/>
            <a:ext cx="7542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024440" y="2819520"/>
            <a:ext cx="69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 flipV="1">
            <a:off x="3006720" y="242892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 flipV="1">
            <a:off x="3079800" y="2629080"/>
            <a:ext cx="460440" cy="47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454560" y="2949480"/>
            <a:ext cx="5014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6361200" y="4435560"/>
            <a:ext cx="753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83040" y="4927680"/>
            <a:ext cx="7542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3057480" y="4527720"/>
            <a:ext cx="895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5468760" y="5641920"/>
            <a:ext cx="171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ion exchange in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684360" y="5410080"/>
            <a:ext cx="17161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6537240" y="2389320"/>
            <a:ext cx="92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vailability of soil water and minera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Mutualistic Relationship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Rhizobium bacteria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ly nitrogen at roots (fix atmospheric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usable 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lant supplies sugar &amp; amino ac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Mycorrhiza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plant + fung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3" name="Picture 3" descr="37_11_RootNodules-L.jpg"/>
          <p:cNvPicPr/>
          <p:nvPr/>
        </p:nvPicPr>
        <p:blipFill>
          <a:blip r:embed="rId1"/>
          <a:stretch/>
        </p:blipFill>
        <p:spPr>
          <a:xfrm>
            <a:off x="2362320" y="3581280"/>
            <a:ext cx="5257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46:10Z</dcterms:created>
  <dc:creator>Chris Nancy Chou</dc:creator>
  <dc:description/>
  <dc:language>en-US</dc:language>
  <cp:lastModifiedBy>Chris Nancy Chou</cp:lastModifiedBy>
  <dcterms:modified xsi:type="dcterms:W3CDTF">2013-04-11T07:37:26Z</dcterms:modified>
  <cp:revision>35</cp:revision>
  <dc:subject/>
  <dc:title>Warm-Up</dc:title>
</cp:coreProperties>
</file>